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09911-304F-4701-BF5F-BE5712FA8B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CD1B1-EF4C-4DFB-9554-2C46024A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F179EF-0026-4221-A9C6-186E517E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A029C4-DF04-4019-B38B-3848B35CF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7E1477-BBD9-4B21-B23E-7589158A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00AF71-568F-42A5-B7D4-F2456B6F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AA3F4D-EE04-42B3-8F08-D226C5C1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3D4EBD-5B01-455E-AA08-2B1A3CFE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49619B-B0E0-4CE2-AFBB-9D38E153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7DEB13-1374-4CC0-A4E4-8E01A526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16E21E-5C4E-4727-94DA-4D0D6C9AD3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50B1E-5FC1-42BE-9B68-1F0D11A195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F1CAA-067D-42DA-A4A6-A603A9DC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30647-651E-48FF-B601-85485B5E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3390C-F0D0-4BE6-A07B-A29021B5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DD31D-3865-45FE-BA6A-0B693FEF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3E960-0C9D-492B-821D-4277EC11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F385C-444D-4F7F-87C2-A30A55D27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23E76-6AFA-431F-B261-9037B6EA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80673-1DA8-438F-8DC1-A62911AA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16694-7634-4203-B21D-C69F7FFF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316E8-4A19-4501-96F5-A93BCF50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632ED-841C-4287-8A62-070CBB17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DF246-B58F-4865-B6A9-03DD03FFA2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ED2D1-375A-4F18-AADF-DD98CAF51F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05F8CC-7002-4093-A407-F8E8F33063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3A4659-1BEB-44D1-B7DB-9E2CFF0E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4CBEE2-2A4A-4640-91FB-10B9A849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693739-7D9A-498E-B104-676DC302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B7E128-46FD-4D1C-ABBF-F2765EB45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895ECD-C1A6-435C-8DFF-7CB0EFE83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47F978-5828-460D-B0BD-C9052562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33F741-C33A-4F61-8746-76EE360B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6A1D48-5A15-4C1C-A6BF-52D39887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19A9C-E056-4BE2-817E-BEC5291FF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B3DB08-C6E5-4D46-92BC-35E93235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1FB0AC-32BB-4330-810D-2FC5D8D4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969A64-2257-4748-98BB-AAB60F72C3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33017F-4E0E-4A69-BCA0-FFED797601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B716B5-E323-4BAD-83E4-0B332A6E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94DD9D-CDD5-465F-AAFE-B0088301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C3C459-FEDB-4A81-94CE-891AF0C7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8FD1C7-DC84-41A8-9E0C-42C3EB4EA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46F2B7-FF2C-47CE-92A8-B2D8333FE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C1817F-A2F3-4F3A-A691-A4BC15BC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D3D8F-AB87-4CF4-AB9E-96B95BCA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8A3304-6228-4111-A32D-953DCE94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BF1673-EEA2-4D72-93E4-BF25BD88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EE3E95-19DF-46D6-A17F-14E63D4B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B56CA7-3462-4B30-B304-7EE0FF51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C16491-5AEC-4F1E-811E-5ED388759E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8098F5-19C3-4C5B-867B-AB2B68445D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EC6EF-F91C-4434-BD0A-A73262B1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32526-3546-44BE-AF61-C1E14A4F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463D4B-8DA2-4F82-8D3E-5DBF5442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D83A9-AD5A-43D0-BF55-63A6BFA6F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E1E28-D7FA-40D4-BA59-689C20DD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6478A-5E8B-4ED2-AA44-3BDC5E315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5618EB-C971-4530-A626-789ECBAA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CB16A-3D27-4924-91BE-4A979148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30DEC-9EAA-4234-82D1-911090F4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868BB4-0A4B-43F5-8570-FBFCBBC5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87543-5E38-4BB0-95DC-968F99F8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89227-CAB2-487B-92D7-4855C5BCEE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B7993-B650-487E-98BE-249628ACD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8C18EE-48F7-41B9-B161-99743643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459808-DB4B-4FCD-BA6F-3CAF3B7E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DC837-C652-4000-B441-20F87A8D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4415EE-B421-46FB-B4AE-C7FEBF53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27457F-52F8-40DC-B488-EEE9E1F1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0D00D-9B2E-4C79-8E53-44700D7E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67D87-6F06-4EA0-9D06-7026F1D9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6DBE5-0D07-424E-BCC9-458C6718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54809-B202-4ABE-960F-C50300F0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D2127-D051-48B8-84A1-FCCED59E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07BAA5-97D3-4990-A6CB-1BF94C1C2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54F8AD-284E-4199-9FAB-3B7824E3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D767A-2425-48E9-B0AD-16590D7BD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13AAC-F33B-44F0-B19B-53088A12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609FD-7825-4E01-A4ED-9D28AB90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74C8A-3B83-4147-A2DE-DA784DB5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3B9F5-8A9A-4BE7-B9AF-4BA40118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B5BE1-FFF1-4C2C-9AED-30036DA2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BAEF0-5C4E-4C60-95B6-56D1838B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72A09-B8C4-474A-946D-7D5C08E9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1B2F9-DA7E-4D63-88C6-6E6314C8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16C7D-1A5C-4D59-B352-EE3ADE4C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023E2-214B-4766-9EE4-85B29E3A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EF8CA-0C67-4C80-8AAC-8C4427CE0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EDABF-0B3F-418C-B1BF-4D4A59BE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699AB-C967-448C-9787-3B787EE50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87C7E8-4D13-45FE-8A8A-0B7B1E36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4285E3-3FFD-41B3-BBBC-9C387F2F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3B31C-F0E8-4E78-86A9-808EFA17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A06AA5-EACE-4DC2-B70C-D78B697B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6541A6-D842-43D2-8342-D15EAEFB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E609EC-0BBA-4601-A70E-59E92099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EEB4CB-781E-44FA-81CC-9A728850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34E153-DA34-459E-8C6F-5A22F890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12BA0-0E55-4BFF-95B4-A6C84628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0FE44-F855-43CD-9DA1-A79414C0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3D2100-6807-49FB-84EB-B7D165F5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0CB57E-383A-4B14-BF77-D286A63BC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08390-0942-443A-8B43-1E85EBEB3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5E27A9-1800-4E30-AF75-EDA21A25D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7B40E8-EB66-4DB7-884E-2A7C8A0F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6EFD14-DF39-45EC-B3B9-A2B02D67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4A163C-4EC3-4950-A95B-04109599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AEEFBC-9108-47E2-A4D6-D9D41F87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5A88FF-D871-40AC-B166-A474C8BB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70B7EE-1C37-41EA-BF2A-46B7890C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9A6F6-52F9-4609-B722-E9201DEE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A94EA-53CC-43C2-AE5C-9B3C9E38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804970-0542-4091-8C8B-D3D7B928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8B1FE0-05F3-4911-BD98-C4F165CD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8822B8-E387-4BA1-A73A-F3667A98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76AC5B-0B18-47A5-ADBA-4077970A8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D00284-B407-4601-A066-596151A33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46C0F6-E214-48F4-9DC1-2887B505C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C41510-33C4-40C4-9A4F-E5D44DC7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44B3A9-8862-4D4F-83AA-7BDF55AB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783A0D-4753-48DD-9215-C646FC55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CB7F1B-D0EB-4E40-836C-8092C53F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25D99-D52E-49F4-9881-9636CE70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D8210D-3A90-463D-A2EC-AD1B688A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07B926-1B2E-4D5B-B13F-996054B9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CBB233-7E30-4D64-A8B1-5BA28267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953FD4-03ED-4368-BDAB-749B041B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208583-A335-4C26-968B-590EA3D2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AD5819-E56B-489D-B527-7592258DD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F08713-84CA-4F7A-8752-2E949555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368351-421D-4861-976E-17C25BE5D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1C6874-C6BF-4276-9607-BBFDB099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53083A-36E0-46DB-B5C5-5EC436CB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DB40D-31DD-47E4-BB6E-BE6F2944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1376A7-F27A-400D-9D9C-6462D0D2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FDBC98-8337-47BD-BDDE-2D9CB65C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A226DF-C107-474A-B224-F619FA50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3A9ABB-9C6D-4DA0-8796-A595F28D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34009F-C614-4AB0-96F8-8ECECB10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16D3EE-30A1-48B1-BE3D-E63755F4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0110C6-004E-46BD-99A0-7C27F62E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DC86D5-189F-4895-AAB5-284E5259E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2A562B-23CA-444E-B0B8-D6FB1E0D0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0C0407-BA4A-4FCF-AA1C-C2C54679B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04832-C785-4326-82B4-4C75D2A32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705A61-11B6-4CAE-9042-D60A0821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F399D1-DFA5-406B-B1CB-D683C305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C180EF-671E-482C-8F0E-EA0A778C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8A0733-878E-421C-989C-C8652A70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9BD383-4C70-4EC1-8983-598E2B21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D51270-6F30-4531-9DB5-665869F0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809FAD-C1EB-485E-8475-0B0199F8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32B834-718B-4B0E-AEBB-C8E90C2A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C96F78-FE94-4891-A106-A804C72C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043075-EA29-427C-A0D1-3B3C1844D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F1020-18B0-4CF8-95AA-E03003864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7F5EAA-CAA1-4C91-917E-D6609428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A6814A-A08E-40EB-8D44-F1F39DD20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ADF408-930C-49CF-BF2D-172E95F3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9FD5AC-31CB-4055-8B97-F838AABF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19D699-4CAF-40CF-8B96-5CED44F0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40EF57-0806-4020-B861-1E232FB0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F2E00D-013B-43E0-A85F-CAACAB3A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5E5E98-C0F8-401A-A6AF-D0A74A3E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1F004F-A121-4550-B856-E0698FD0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1B6E91-8D8C-45BD-BA2B-DB0E02F1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D540CE-D09B-4B48-9B0D-ED660071D5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8FD247-7C64-458B-8081-596271C0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23C39F-A17F-412F-A746-C95C9A875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964C10-5C6A-43CB-B30F-49EB388EA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14085E-70B1-4DFD-8774-E3B6547DC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849D0A-220D-4EE9-8D6B-BB0880B3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00F83E-F32B-4FF0-A64B-0C395707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E7E7EE-A401-4211-B2D6-EA919C23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6F5409-2923-42CB-8143-504BB136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FD64DE-9EF8-4959-B840-E27CB439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09ABC0-4985-4375-90A7-45F6546D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FF0A38-22B3-4736-A747-8960993E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0DB0D6-24C4-44EA-A09E-4FF48EEC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2E3CEA-E216-448F-B96E-0B7CECE7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AA4CD3-74AD-4DE6-8481-DF921C46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FF029A-876E-4BAE-AC48-4B5B9E21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042C8E-1CEB-4D76-A821-F4931B307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93919E-822E-4302-9B99-84DF49753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A127FA-D9F3-40FF-9F4F-13D76EF2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7A310A-8C1A-4A50-90C9-2A2799F8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82317E-9672-4650-A5F7-44F8B9C4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50CDE5-9E46-4CDF-8B26-1760E5F6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61BE5B-7CF7-44CE-AD6B-436C43BF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006B07-7100-4E31-A63C-D8A04C0E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8245BC-34CC-4AD7-905C-B7209F36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0B9B47-64DE-41F6-A2D6-B961AE81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5A684F-70DB-4DA1-A94C-CF4C4FDF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76E047-17FD-4436-9B01-F85B48DE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CD7A8C-BBDD-4A6A-8FB2-12316F8E2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1ADDF3-BB30-44C6-A9C5-10F95ACA3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27154E-3D69-4F2C-B844-F7CE91EF9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51FBF9-E8BA-4829-B2C1-4F3B51D8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ED914C-A3E3-4996-8BAB-D0D91825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43B0DD-1BCB-4924-ADBF-0B0648F0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8A5EE9-6A56-47F0-9CD8-7F81B952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848953-8521-4FAB-BB3C-99CDB96B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F5A04A-9305-4C75-8372-3A80598C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BA7384-2742-4F04-831B-5EAAF187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4B8CDF-7C85-431B-B4E7-3DDB8242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4A8866-96F5-488B-97B3-31D1AC1A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00B64F-2426-490E-88FF-3AF87909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4C15D7-10C8-4469-AF2E-F8EC4097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AA16BE-5A84-4463-AF07-1D9FAA875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C94B58-38CF-4519-974E-C244F5AC0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5A6C9-2DFE-48F7-90B3-0587486D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F61B3A-98BF-4484-AD4B-9C79D6710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F5B797-D158-4FB9-9AFD-F8B44679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9FE9EB-6323-4A05-B0ED-53865734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592B7B-4291-4ED6-8D49-9D6B3732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8C14B7-F2E1-4C88-8D92-BE96909C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AF2B2E-D467-43A3-8DD8-5BF8C9BE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586DBC-EBD2-4709-8709-E2734E42AD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FAB2A-9B13-4F0E-82E0-711B3008AF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FC224-C4DA-4E84-AF18-0BE6C5D3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BB432-F195-4AC5-BEDB-146DEA8D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B4AF9-D0E1-4F8F-B83B-E3C7B4F6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1E158-CF73-4CA0-B05B-9950D2C6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BC091-51A4-470E-9B8A-1B11EE8D9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37260-1B3B-4FD8-8CD5-F75685AC0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9BA66-03D4-49F0-9306-CE11A0CD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16170-55A7-4764-8C4A-AEADD018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85B70-F6C8-449B-982D-FD32C87B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46DBD-BD1D-4AC1-8DD7-F72370CF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E9CCC-604C-4607-815E-CA8ADDFA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D3804-F737-41E4-9A5C-C2640C69C2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6B89E7-568E-4B6D-9D0E-2FE77687CF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32570-0098-48A7-91BB-426402ED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31B562-A6D5-401A-9F22-A7036410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30BAC6-F998-4108-B0F0-AE06C8C0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5F0EEF-656C-48A4-BBF1-58D68293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BB9BCC-05F0-40F6-B850-BD95D03E4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18E8C1-198F-44E7-BF52-64AB73B3A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5E34BE-631F-4EAA-BA77-59AAD4D3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20C562-6CC3-4D70-96F7-40E7E850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995861-2841-47DA-ABC9-FB326FF5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E5EF6F-C6DC-4842-A6F9-6F4017F5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8F466F-6E86-4E3A-B10C-7BB309E0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1CAED-2319-4ABB-8598-0F0C0463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D72025-925E-4326-9D93-089E96152B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E73E59-58FC-4A33-B54A-AD3411B15F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777686-BB84-4085-9888-0D4E0B22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6E2076-6F97-449F-8500-0B529D25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F1A891-EFD7-4234-ADBA-9FCC900E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0E1398-73BB-45A7-AF15-1D4531FEF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C2A2C7-56F1-439A-8F0A-7ADAD168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76E990-337C-4AA5-B752-0A9B7249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5A0424-7827-48CF-A249-C493E44D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EF586F-4DC2-4398-9941-876DE5D9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35AA2-042F-4A9E-9D42-4695C706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11F3C5-861C-47F8-A4ED-A1DAE830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8033FE-1EDD-42CC-804D-B547DF20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D1E60C-004E-4FAD-9E4E-67B95B3A53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FC825-0BBA-4C33-898E-25A696A802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ABB94-7DE9-4B75-BCC8-8AED7DE3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8C2D0-DCE9-4094-A8C1-7233C154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83317-66FC-406D-B822-9022E32A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D2A32-BF35-4B45-8310-5CE8A24E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FD874-BA36-4D0C-A36E-35CEA141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00895-3F4B-46CA-BD0A-2ABC676F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CF980-FFAB-4538-B5BB-EF6C06B7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17C91-85B5-4FF9-A728-805CEA32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03C70-EF6E-4D66-A6F0-278C6AFD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EA110-01CE-4BC8-A923-4C4D669D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0F7CC-4E28-48B5-B73F-B514E519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D287F-5EF3-4DE0-AED1-9EB621A71B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BE033B-F2D0-4227-ADA6-E870FB371A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5DD9DE-77FA-4372-9A53-B974167D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8F9917-27C3-4407-BAF2-7DCC483D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78B38C-6E95-486D-8DE9-F89C43F8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B5E8FE-FFEB-4558-BEB5-DD68B01ED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6574D-12CF-43F2-BA75-C23C0C44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AABEE1-8E8F-4EDE-80A6-87432C1EC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8DCC95-B2A2-4FE8-BA88-847F300C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54973C-B44F-4CC6-97DE-2A5C53F3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911934-ED42-40C6-9221-CC1340AA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4CA237-6FC4-4644-BF96-4C562BD4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B6BCDE-277E-4B00-80AE-4D7C1DA6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20CD6B-C3C5-4269-92F3-1AFD1B82FE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6796D9-95F9-460B-BE85-9265B834BF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477ECC-AC50-470B-A5D2-C26E41E0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9BBED1-96F8-44DB-BBD3-BC0118B6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BC27-72CD-4C73-97C3-40133EC9AB3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407D-1346-4A51-A2BF-C055A33F5E8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2C0E-5195-4D9A-9908-7ED4D37EDD9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DA8D-3AAC-4637-B5CF-09B0E3CB020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FCA0-634E-4DD1-92AD-BC117F5ED97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1B97-BA1D-4A07-97AD-B942F542DF9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1412-9CDE-422A-B6F4-6139A384192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4FE2-846E-4F79-9AD1-76DAF79508D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F958-8F32-4AC6-B627-E5ABC982CC2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79A7-93E1-499E-8BE6-BC90C311FF3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A207-89A1-4DA3-B126-8D3BD8F122E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C2A1-DEB9-4069-980A-9BEA1EFB942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97CE-0B7C-4F03-891D-521FD65631B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40FA-B27A-4C63-9E4C-CE540AE72B4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6BF3-E67A-4688-A5F4-1AAFF411F6C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E0E2-850E-4548-9663-61E9025ABCE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A7CA-C42F-45C2-A181-9FD344376C9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45F1-A169-4F59-AE11-8E037E7235C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A91B-4379-44D6-88B2-1860F073466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78F8-6A54-4D80-B307-5D015CD0B38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9808-79A3-4A26-A02A-D14686059BF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B5DF-40BE-433D-B03B-55B218D64D3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F8CF-0EEE-4163-9FED-3F2677EB859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1702-5F40-489F-B5C4-02B3144831A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四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3516480" y="2676600"/>
            <a:ext cx="55872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52440" y="2647800"/>
            <a:ext cx="844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画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4929120" cy="360"/>
            <a:chOff x="2284560" y="2448000"/>
            <a:chExt cx="492912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492912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4929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1171440" y="1744560"/>
            <a:ext cx="748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角的度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Rectangle 21"/>
          <p:cNvSpPr/>
          <p:nvPr/>
        </p:nvSpPr>
        <p:spPr>
          <a:xfrm>
            <a:off x="538200" y="117360"/>
            <a:ext cx="310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一、复习引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3"/>
          <p:cNvSpPr/>
          <p:nvPr/>
        </p:nvSpPr>
        <p:spPr>
          <a:xfrm>
            <a:off x="2053440" y="981000"/>
            <a:ext cx="490824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用一副三角尺画出下面的角，说一说你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怎样画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30°                        90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你能画出任意度数的角吗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组合 31747"/>
          <p:cNvGrpSpPr/>
          <p:nvPr/>
        </p:nvGrpSpPr>
        <p:grpSpPr>
          <a:xfrm>
            <a:off x="1567800" y="2995200"/>
            <a:ext cx="1367640" cy="765720"/>
            <a:chOff x="1567800" y="2995200"/>
            <a:chExt cx="1367640" cy="765720"/>
          </a:xfrm>
        </p:grpSpPr>
        <p:grpSp>
          <p:nvGrpSpPr>
            <p:cNvPr id="1012" name="组合 31748"/>
            <p:cNvGrpSpPr/>
            <p:nvPr/>
          </p:nvGrpSpPr>
          <p:grpSpPr>
            <a:xfrm>
              <a:off x="1567800" y="2995200"/>
              <a:ext cx="1367640" cy="684360"/>
              <a:chOff x="1567800" y="2995200"/>
              <a:chExt cx="1367640" cy="684360"/>
            </a:xfrm>
          </p:grpSpPr>
          <p:grpSp>
            <p:nvGrpSpPr>
              <p:cNvPr id="1013" name=""/>
              <p:cNvGrpSpPr/>
              <p:nvPr/>
            </p:nvGrpSpPr>
            <p:grpSpPr>
              <a:xfrm>
                <a:off x="1568160" y="3679200"/>
                <a:ext cx="1367280" cy="360"/>
                <a:chOff x="1568160" y="3679200"/>
                <a:chExt cx="1367280" cy="360"/>
              </a:xfrm>
            </p:grpSpPr>
            <p:sp>
              <p:nvSpPr>
                <p:cNvPr id="1014" name="直接连接符 31749"/>
                <p:cNvSpPr/>
                <p:nvPr/>
              </p:nvSpPr>
              <p:spPr>
                <a:xfrm>
                  <a:off x="1568160" y="3679200"/>
                  <a:ext cx="1367280" cy="360"/>
                </a:xfrm>
                <a:prstGeom prst="line">
                  <a:avLst/>
                </a:prstGeom>
                <a:ln w="255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"/>
                <p:cNvSpPr txBox="1"/>
                <p:nvPr/>
              </p:nvSpPr>
              <p:spPr>
                <a:xfrm>
                  <a:off x="1568160" y="3679200"/>
                  <a:ext cx="1367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6" name=""/>
              <p:cNvGrpSpPr/>
              <p:nvPr/>
            </p:nvGrpSpPr>
            <p:grpSpPr>
              <a:xfrm>
                <a:off x="1567800" y="2995200"/>
                <a:ext cx="1184400" cy="684000"/>
                <a:chOff x="1567800" y="2995200"/>
                <a:chExt cx="1184400" cy="684000"/>
              </a:xfrm>
            </p:grpSpPr>
            <p:sp>
              <p:nvSpPr>
                <p:cNvPr id="1017" name="直接连接符 31750"/>
                <p:cNvSpPr/>
                <p:nvPr/>
              </p:nvSpPr>
              <p:spPr>
                <a:xfrm flipV="1">
                  <a:off x="1567800" y="2995200"/>
                  <a:ext cx="1184400" cy="683640"/>
                </a:xfrm>
                <a:prstGeom prst="line">
                  <a:avLst/>
                </a:prstGeom>
                <a:ln w="255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"/>
                <p:cNvSpPr txBox="1"/>
                <p:nvPr/>
              </p:nvSpPr>
              <p:spPr>
                <a:xfrm rot="19800000">
                  <a:off x="1476000" y="3336840"/>
                  <a:ext cx="1367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9" name="任意多边形 31751"/>
            <p:cNvSpPr/>
            <p:nvPr/>
          </p:nvSpPr>
          <p:spPr>
            <a:xfrm>
              <a:off x="1856160" y="3488400"/>
              <a:ext cx="75960" cy="179280"/>
            </a:xfrm>
            <a:custGeom>
              <a:avLst/>
              <a:gdLst/>
              <a:ahLst/>
              <a:rect l="l" t="t" r="r" b="b"/>
              <a:pathLst>
                <a:path fill="none" w="21600" h="17069">
                  <a:moveTo>
                    <a:pt x="13237" y="0"/>
                  </a:moveTo>
                  <a:cubicBezTo>
                    <a:pt x="18326" y="3951"/>
                    <a:pt x="21600" y="10128"/>
                    <a:pt x="21600" y="17069"/>
                  </a:cubicBezTo>
                </a:path>
                <a:path stroke="0" w="21600" h="17069">
                  <a:moveTo>
                    <a:pt x="21600" y="17069"/>
                  </a:moveTo>
                  <a:cubicBezTo>
                    <a:pt x="21582" y="16333"/>
                    <a:pt x="21572" y="15581"/>
                    <a:pt x="21572" y="14820"/>
                  </a:cubicBezTo>
                  <a:cubicBezTo>
                    <a:pt x="21572" y="4142"/>
                    <a:pt x="23444" y="-4514"/>
                    <a:pt x="25753" y="-4514"/>
                  </a:cubicBezTo>
                  <a:cubicBezTo>
                    <a:pt x="28062" y="-4514"/>
                    <a:pt x="29934" y="4142"/>
                    <a:pt x="29934" y="14820"/>
                  </a:cubicBezTo>
                  <a:cubicBezTo>
                    <a:pt x="29934" y="15682"/>
                    <a:pt x="29922" y="16531"/>
                    <a:pt x="29898" y="17358"/>
                  </a:cubicBezTo>
                  <a:lnTo>
                    <a:pt x="13237" y="0"/>
                  </a:lnTo>
                  <a:close/>
                </a:path>
              </a:pathLst>
            </a:custGeom>
            <a:noFill/>
            <a:ln w="255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文本框 31752"/>
            <p:cNvSpPr/>
            <p:nvPr/>
          </p:nvSpPr>
          <p:spPr>
            <a:xfrm>
              <a:off x="1960200" y="3286080"/>
              <a:ext cx="6609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cc0000"/>
                  </a:solidFill>
                  <a:latin typeface="Arial"/>
                  <a:ea typeface="宋体"/>
                </a:rPr>
                <a:t>30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3780000" y="6310440"/>
            <a:ext cx="1440" cy="360"/>
            <a:chOff x="3780000" y="6310440"/>
            <a:chExt cx="1440" cy="360"/>
          </a:xfrm>
        </p:grpSpPr>
        <p:sp>
          <p:nvSpPr>
            <p:cNvPr id="1022" name="直接连接符 31753"/>
            <p:cNvSpPr/>
            <p:nvPr/>
          </p:nvSpPr>
          <p:spPr>
            <a:xfrm>
              <a:off x="3780000" y="6310440"/>
              <a:ext cx="14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 txBox="1"/>
            <p:nvPr/>
          </p:nvSpPr>
          <p:spPr>
            <a:xfrm>
              <a:off x="3780000" y="6310440"/>
              <a:ext cx="1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组合 31754"/>
          <p:cNvGrpSpPr/>
          <p:nvPr/>
        </p:nvGrpSpPr>
        <p:grpSpPr>
          <a:xfrm>
            <a:off x="5014800" y="2647800"/>
            <a:ext cx="1511280" cy="1491480"/>
            <a:chOff x="5014800" y="2647800"/>
            <a:chExt cx="1511280" cy="1491480"/>
          </a:xfrm>
        </p:grpSpPr>
        <p:grpSp>
          <p:nvGrpSpPr>
            <p:cNvPr id="1025" name="组合 31755"/>
            <p:cNvGrpSpPr/>
            <p:nvPr/>
          </p:nvGrpSpPr>
          <p:grpSpPr>
            <a:xfrm>
              <a:off x="5014800" y="2647800"/>
              <a:ext cx="1511280" cy="1440000"/>
              <a:chOff x="5014800" y="2647800"/>
              <a:chExt cx="1511280" cy="1440000"/>
            </a:xfrm>
          </p:grpSpPr>
          <p:grpSp>
            <p:nvGrpSpPr>
              <p:cNvPr id="1026" name=""/>
              <p:cNvGrpSpPr/>
              <p:nvPr/>
            </p:nvGrpSpPr>
            <p:grpSpPr>
              <a:xfrm>
                <a:off x="5014800" y="4087440"/>
                <a:ext cx="1511280" cy="360"/>
                <a:chOff x="5014800" y="4087440"/>
                <a:chExt cx="1511280" cy="360"/>
              </a:xfrm>
            </p:grpSpPr>
            <p:sp>
              <p:nvSpPr>
                <p:cNvPr id="1027" name="直接连接符 31756"/>
                <p:cNvSpPr/>
                <p:nvPr/>
              </p:nvSpPr>
              <p:spPr>
                <a:xfrm>
                  <a:off x="5014800" y="4087440"/>
                  <a:ext cx="1511280" cy="360"/>
                </a:xfrm>
                <a:prstGeom prst="line">
                  <a:avLst/>
                </a:prstGeom>
                <a:ln w="255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 txBox="1"/>
                <p:nvPr/>
              </p:nvSpPr>
              <p:spPr>
                <a:xfrm>
                  <a:off x="5014800" y="4087440"/>
                  <a:ext cx="1511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"/>
              <p:cNvGrpSpPr/>
              <p:nvPr/>
            </p:nvGrpSpPr>
            <p:grpSpPr>
              <a:xfrm>
                <a:off x="5015880" y="2647800"/>
                <a:ext cx="360" cy="1436400"/>
                <a:chOff x="5015880" y="2647800"/>
                <a:chExt cx="360" cy="1436400"/>
              </a:xfrm>
            </p:grpSpPr>
            <p:sp>
              <p:nvSpPr>
                <p:cNvPr id="1030" name="直接连接符 31757"/>
                <p:cNvSpPr/>
                <p:nvPr/>
              </p:nvSpPr>
              <p:spPr>
                <a:xfrm flipH="1">
                  <a:off x="5015880" y="2647800"/>
                  <a:ext cx="360" cy="1436400"/>
                </a:xfrm>
                <a:prstGeom prst="line">
                  <a:avLst/>
                </a:prstGeom>
                <a:ln w="255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"/>
                <p:cNvSpPr txBox="1"/>
                <p:nvPr/>
              </p:nvSpPr>
              <p:spPr>
                <a:xfrm rot="5400000">
                  <a:off x="4297680" y="3365640"/>
                  <a:ext cx="1436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2" name="矩形 31758"/>
              <p:cNvSpPr/>
              <p:nvPr/>
            </p:nvSpPr>
            <p:spPr>
              <a:xfrm>
                <a:off x="5018040" y="3962520"/>
                <a:ext cx="130680" cy="124200"/>
              </a:xfrm>
              <a:prstGeom prst="rect">
                <a:avLst/>
              </a:prstGeom>
              <a:noFill/>
              <a:ln w="255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3" name="文本框 31759"/>
            <p:cNvSpPr/>
            <p:nvPr/>
          </p:nvSpPr>
          <p:spPr>
            <a:xfrm>
              <a:off x="5118480" y="3664440"/>
              <a:ext cx="6609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cc0000"/>
                  </a:solidFill>
                  <a:latin typeface="Arial"/>
                  <a:ea typeface="宋体"/>
                </a:rPr>
                <a:t>90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3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6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37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8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45" name=""/>
          <p:cNvSpPr txBox="1"/>
          <p:nvPr/>
        </p:nvSpPr>
        <p:spPr>
          <a:xfrm>
            <a:off x="538200" y="357660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画一条射线，使量角器的中心和射线的端点重合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刻度线和射线重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在量角器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0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刻度线的地方点一个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以画出的射线的端点为端点，通过刚画的点，再画一条射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21"/>
          <p:cNvSpPr/>
          <p:nvPr/>
        </p:nvSpPr>
        <p:spPr>
          <a:xfrm>
            <a:off x="538200" y="117360"/>
            <a:ext cx="310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二、自主探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7" name="Group 4"/>
          <p:cNvGrpSpPr/>
          <p:nvPr/>
        </p:nvGrpSpPr>
        <p:grpSpPr>
          <a:xfrm>
            <a:off x="539640" y="1898640"/>
            <a:ext cx="2759040" cy="1419120"/>
            <a:chOff x="539640" y="1898640"/>
            <a:chExt cx="2759040" cy="1419120"/>
          </a:xfrm>
        </p:grpSpPr>
        <p:pic>
          <p:nvPicPr>
            <p:cNvPr id="1048" name="Picture 5" descr="86"/>
            <p:cNvPicPr/>
            <p:nvPr/>
          </p:nvPicPr>
          <p:blipFill>
            <a:blip r:embed="rId8"/>
            <a:stretch/>
          </p:blipFill>
          <p:spPr>
            <a:xfrm>
              <a:off x="539640" y="1898640"/>
              <a:ext cx="2592720" cy="1419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9" name=""/>
            <p:cNvGrpSpPr/>
            <p:nvPr/>
          </p:nvGrpSpPr>
          <p:grpSpPr>
            <a:xfrm>
              <a:off x="1858320" y="3189960"/>
              <a:ext cx="1440360" cy="720"/>
              <a:chOff x="1858320" y="3189960"/>
              <a:chExt cx="1440360" cy="720"/>
            </a:xfrm>
          </p:grpSpPr>
          <p:sp>
            <p:nvSpPr>
              <p:cNvPr id="1050" name="Line 6"/>
              <p:cNvSpPr/>
              <p:nvPr/>
            </p:nvSpPr>
            <p:spPr>
              <a:xfrm>
                <a:off x="1858320" y="3189960"/>
                <a:ext cx="1440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 txBox="1"/>
              <p:nvPr/>
            </p:nvSpPr>
            <p:spPr>
              <a:xfrm>
                <a:off x="1858320" y="3189960"/>
                <a:ext cx="144036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Oval 7"/>
            <p:cNvSpPr/>
            <p:nvPr/>
          </p:nvSpPr>
          <p:spPr>
            <a:xfrm flipH="1" flipV="1">
              <a:off x="1811880" y="3161520"/>
              <a:ext cx="5400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Text Box 8"/>
          <p:cNvSpPr/>
          <p:nvPr/>
        </p:nvSpPr>
        <p:spPr>
          <a:xfrm>
            <a:off x="1162440" y="766800"/>
            <a:ext cx="18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画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4" name="Group 9"/>
          <p:cNvGrpSpPr/>
          <p:nvPr/>
        </p:nvGrpSpPr>
        <p:grpSpPr>
          <a:xfrm>
            <a:off x="3203640" y="1100160"/>
            <a:ext cx="3348000" cy="2217600"/>
            <a:chOff x="3203640" y="1100160"/>
            <a:chExt cx="3348000" cy="2217600"/>
          </a:xfrm>
        </p:grpSpPr>
        <p:pic>
          <p:nvPicPr>
            <p:cNvPr id="1055" name="Picture 10" descr="86"/>
            <p:cNvPicPr/>
            <p:nvPr/>
          </p:nvPicPr>
          <p:blipFill>
            <a:blip r:embed="rId9"/>
            <a:stretch/>
          </p:blipFill>
          <p:spPr>
            <a:xfrm>
              <a:off x="3792240" y="1898640"/>
              <a:ext cx="2592720" cy="1419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6" name=""/>
            <p:cNvGrpSpPr/>
            <p:nvPr/>
          </p:nvGrpSpPr>
          <p:grpSpPr>
            <a:xfrm>
              <a:off x="5110920" y="3190320"/>
              <a:ext cx="1440720" cy="360"/>
              <a:chOff x="5110920" y="3190320"/>
              <a:chExt cx="1440720" cy="360"/>
            </a:xfrm>
          </p:grpSpPr>
          <p:sp>
            <p:nvSpPr>
              <p:cNvPr id="1057" name="Line 11"/>
              <p:cNvSpPr/>
              <p:nvPr/>
            </p:nvSpPr>
            <p:spPr>
              <a:xfrm>
                <a:off x="5110920" y="3190320"/>
                <a:ext cx="14407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 txBox="1"/>
              <p:nvPr/>
            </p:nvSpPr>
            <p:spPr>
              <a:xfrm>
                <a:off x="5110920" y="3190320"/>
                <a:ext cx="144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Oval 12"/>
            <p:cNvSpPr/>
            <p:nvPr/>
          </p:nvSpPr>
          <p:spPr>
            <a:xfrm flipH="1" flipV="1">
              <a:off x="5064480" y="3160800"/>
              <a:ext cx="54000" cy="53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0" name="Picture 13" descr="87"/>
            <p:cNvPicPr/>
            <p:nvPr/>
          </p:nvPicPr>
          <p:blipFill>
            <a:blip r:embed="rId10"/>
            <a:stretch/>
          </p:blipFill>
          <p:spPr>
            <a:xfrm>
              <a:off x="5756400" y="1100160"/>
              <a:ext cx="563760" cy="91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1" name="Oval 14"/>
            <p:cNvSpPr/>
            <p:nvPr/>
          </p:nvSpPr>
          <p:spPr>
            <a:xfrm>
              <a:off x="5727240" y="2011680"/>
              <a:ext cx="35280" cy="35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AutoShape 15"/>
            <p:cNvSpPr/>
            <p:nvPr/>
          </p:nvSpPr>
          <p:spPr>
            <a:xfrm>
              <a:off x="3203640" y="2421360"/>
              <a:ext cx="576000" cy="144000"/>
            </a:xfrm>
            <a:prstGeom prst="rightArrow">
              <a:avLst>
                <a:gd name="adj1" fmla="val 50000"/>
                <a:gd name="adj2" fmla="val 99833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Group 16"/>
          <p:cNvGrpSpPr/>
          <p:nvPr/>
        </p:nvGrpSpPr>
        <p:grpSpPr>
          <a:xfrm>
            <a:off x="6581880" y="2060280"/>
            <a:ext cx="2140920" cy="1212120"/>
            <a:chOff x="6581880" y="2060280"/>
            <a:chExt cx="2140920" cy="1212120"/>
          </a:xfrm>
        </p:grpSpPr>
        <p:grpSp>
          <p:nvGrpSpPr>
            <p:cNvPr id="1064" name=""/>
            <p:cNvGrpSpPr/>
            <p:nvPr/>
          </p:nvGrpSpPr>
          <p:grpSpPr>
            <a:xfrm>
              <a:off x="7283160" y="3204720"/>
              <a:ext cx="1439640" cy="360"/>
              <a:chOff x="7283160" y="3204720"/>
              <a:chExt cx="1439640" cy="360"/>
            </a:xfrm>
          </p:grpSpPr>
          <p:sp>
            <p:nvSpPr>
              <p:cNvPr id="1065" name="Line 17"/>
              <p:cNvSpPr/>
              <p:nvPr/>
            </p:nvSpPr>
            <p:spPr>
              <a:xfrm>
                <a:off x="7283160" y="3204720"/>
                <a:ext cx="143964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 txBox="1"/>
              <p:nvPr/>
            </p:nvSpPr>
            <p:spPr>
              <a:xfrm>
                <a:off x="7283160" y="3204720"/>
                <a:ext cx="143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7" name="Oval 18"/>
            <p:cNvSpPr/>
            <p:nvPr/>
          </p:nvSpPr>
          <p:spPr>
            <a:xfrm flipH="1" flipV="1">
              <a:off x="7236360" y="3176280"/>
              <a:ext cx="5364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"/>
            <p:cNvGrpSpPr/>
            <p:nvPr/>
          </p:nvGrpSpPr>
          <p:grpSpPr>
            <a:xfrm>
              <a:off x="7257240" y="2060280"/>
              <a:ext cx="647280" cy="1153080"/>
              <a:chOff x="7257240" y="2060280"/>
              <a:chExt cx="647280" cy="1153080"/>
            </a:xfrm>
          </p:grpSpPr>
          <p:sp>
            <p:nvSpPr>
              <p:cNvPr id="1069" name="Line 19"/>
              <p:cNvSpPr/>
              <p:nvPr/>
            </p:nvSpPr>
            <p:spPr>
              <a:xfrm flipV="1">
                <a:off x="7257240" y="2060280"/>
                <a:ext cx="647280" cy="115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 txBox="1"/>
              <p:nvPr/>
            </p:nvSpPr>
            <p:spPr>
              <a:xfrm rot="10800000">
                <a:off x="7257240" y="2060280"/>
                <a:ext cx="647280" cy="115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1" name="Arc 20"/>
            <p:cNvSpPr/>
            <p:nvPr/>
          </p:nvSpPr>
          <p:spPr>
            <a:xfrm rot="1500000">
              <a:off x="7322040" y="3053520"/>
              <a:ext cx="155880" cy="128880"/>
            </a:xfrm>
            <a:custGeom>
              <a:avLst/>
              <a:gdLst/>
              <a:ahLst/>
              <a:rect l="l" t="t" r="r" b="b"/>
              <a:pathLst>
                <a:path fill="none" w="21575" h="21600">
                  <a:moveTo>
                    <a:pt x="-1" y="0"/>
                  </a:moveTo>
                  <a:cubicBezTo>
                    <a:pt x="11529" y="0"/>
                    <a:pt x="21026" y="9054"/>
                    <a:pt x="21575" y="20570"/>
                  </a:cubicBezTo>
                </a:path>
                <a:path stroke="0" w="21575" h="21600">
                  <a:moveTo>
                    <a:pt x="-1" y="0"/>
                  </a:moveTo>
                  <a:cubicBezTo>
                    <a:pt x="11529" y="0"/>
                    <a:pt x="21026" y="9054"/>
                    <a:pt x="21575" y="2057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Text Box 21"/>
            <p:cNvSpPr/>
            <p:nvPr/>
          </p:nvSpPr>
          <p:spPr>
            <a:xfrm>
              <a:off x="7403760" y="2812680"/>
              <a:ext cx="64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0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AutoShape 22"/>
            <p:cNvSpPr/>
            <p:nvPr/>
          </p:nvSpPr>
          <p:spPr>
            <a:xfrm>
              <a:off x="6581880" y="2421000"/>
              <a:ext cx="575640" cy="144000"/>
            </a:xfrm>
            <a:prstGeom prst="rightArrow">
              <a:avLst>
                <a:gd name="adj1" fmla="val 50000"/>
                <a:gd name="adj2" fmla="val 99771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4" name="八边形 7"/>
          <p:cNvSpPr/>
          <p:nvPr/>
        </p:nvSpPr>
        <p:spPr>
          <a:xfrm>
            <a:off x="314280" y="779400"/>
            <a:ext cx="52236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Text Box 5"/>
          <p:cNvSpPr/>
          <p:nvPr/>
        </p:nvSpPr>
        <p:spPr>
          <a:xfrm>
            <a:off x="1243800" y="984240"/>
            <a:ext cx="381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分别画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75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05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6"/>
          <p:cNvSpPr/>
          <p:nvPr/>
        </p:nvSpPr>
        <p:spPr>
          <a:xfrm>
            <a:off x="579600" y="3443400"/>
            <a:ext cx="642132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画出下面的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0°       30°       85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90°       120°    135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1260360" y="3143160"/>
            <a:ext cx="2160720" cy="1800"/>
            <a:chOff x="1260360" y="3143160"/>
            <a:chExt cx="2160720" cy="1800"/>
          </a:xfrm>
        </p:grpSpPr>
        <p:sp>
          <p:nvSpPr>
            <p:cNvPr id="1078" name="Line 2"/>
            <p:cNvSpPr/>
            <p:nvPr/>
          </p:nvSpPr>
          <p:spPr>
            <a:xfrm>
              <a:off x="1260360" y="3143160"/>
              <a:ext cx="2160720" cy="18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 txBox="1"/>
            <p:nvPr/>
          </p:nvSpPr>
          <p:spPr>
            <a:xfrm>
              <a:off x="1260360" y="3143160"/>
              <a:ext cx="21607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5292720" y="3143160"/>
            <a:ext cx="2160720" cy="1800"/>
            <a:chOff x="5292720" y="3143160"/>
            <a:chExt cx="2160720" cy="1800"/>
          </a:xfrm>
        </p:grpSpPr>
        <p:sp>
          <p:nvSpPr>
            <p:cNvPr id="1081" name="Line 2"/>
            <p:cNvSpPr/>
            <p:nvPr/>
          </p:nvSpPr>
          <p:spPr>
            <a:xfrm>
              <a:off x="5292720" y="3143160"/>
              <a:ext cx="2160720" cy="18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 txBox="1"/>
            <p:nvPr/>
          </p:nvSpPr>
          <p:spPr>
            <a:xfrm>
              <a:off x="5292720" y="3143160"/>
              <a:ext cx="21607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3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84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5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86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7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9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0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1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2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3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94" name="Rectangle 64"/>
          <p:cNvSpPr/>
          <p:nvPr/>
        </p:nvSpPr>
        <p:spPr>
          <a:xfrm>
            <a:off x="655560" y="185760"/>
            <a:ext cx="24465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5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96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7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98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9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0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06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Box 32"/>
          <p:cNvSpPr/>
          <p:nvPr/>
        </p:nvSpPr>
        <p:spPr>
          <a:xfrm>
            <a:off x="77760" y="925560"/>
            <a:ext cx="84488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画指定度数的角，要注意做到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两重合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：量角器的中心与射线的端点重合，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°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刻度线与所画的一条射线重合。还要做到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一看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：所画的射线对应的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刻度在内圈，看的就是内圈刻度；所画的射线对应的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刻度在外圈，看的就是外圈刻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0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1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19" name="Rectangle 64"/>
          <p:cNvSpPr/>
          <p:nvPr/>
        </p:nvSpPr>
        <p:spPr>
          <a:xfrm>
            <a:off x="438120" y="130320"/>
            <a:ext cx="2648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五、拓展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文本框 99"/>
          <p:cNvSpPr/>
          <p:nvPr/>
        </p:nvSpPr>
        <p:spPr>
          <a:xfrm>
            <a:off x="206280" y="752400"/>
            <a:ext cx="8956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填空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画角的步骤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画一条（    ），使量角器的（    ）和（    ）的顶点重合，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0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刻度线和射线重合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在量角器上对准要画的度数刻度线的地方（    ）一个点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以画出的射线的端点为（    ），通过刚画的（    ），再画一条射线。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. 179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角是（   ）角；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89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角是（   ）角；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9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角是（  ）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两个角的和是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80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其中一个角是锐角，另一个角是（    ）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文本框 2"/>
          <p:cNvSpPr/>
          <p:nvPr/>
        </p:nvSpPr>
        <p:spPr>
          <a:xfrm>
            <a:off x="1862280" y="1798560"/>
            <a:ext cx="7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射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文本框 3"/>
          <p:cNvSpPr/>
          <p:nvPr/>
        </p:nvSpPr>
        <p:spPr>
          <a:xfrm>
            <a:off x="4405320" y="1798560"/>
            <a:ext cx="7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中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文本框 4"/>
          <p:cNvSpPr/>
          <p:nvPr/>
        </p:nvSpPr>
        <p:spPr>
          <a:xfrm>
            <a:off x="5823000" y="1781280"/>
            <a:ext cx="40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文本框 6"/>
          <p:cNvSpPr/>
          <p:nvPr/>
        </p:nvSpPr>
        <p:spPr>
          <a:xfrm>
            <a:off x="5807160" y="270180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文本框 7"/>
          <p:cNvSpPr/>
          <p:nvPr/>
        </p:nvSpPr>
        <p:spPr>
          <a:xfrm>
            <a:off x="3638520" y="3156120"/>
            <a:ext cx="85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端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文本框 8"/>
          <p:cNvSpPr/>
          <p:nvPr/>
        </p:nvSpPr>
        <p:spPr>
          <a:xfrm>
            <a:off x="6324480" y="3154320"/>
            <a:ext cx="5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文本框 9"/>
          <p:cNvSpPr/>
          <p:nvPr/>
        </p:nvSpPr>
        <p:spPr>
          <a:xfrm>
            <a:off x="2298600" y="3622680"/>
            <a:ext cx="5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文本框 10"/>
          <p:cNvSpPr/>
          <p:nvPr/>
        </p:nvSpPr>
        <p:spPr>
          <a:xfrm>
            <a:off x="4959360" y="3624120"/>
            <a:ext cx="5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文本框 12"/>
          <p:cNvSpPr/>
          <p:nvPr/>
        </p:nvSpPr>
        <p:spPr>
          <a:xfrm>
            <a:off x="7556400" y="3614760"/>
            <a:ext cx="5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文本框 14"/>
          <p:cNvSpPr/>
          <p:nvPr/>
        </p:nvSpPr>
        <p:spPr>
          <a:xfrm>
            <a:off x="6815160" y="4086360"/>
            <a:ext cx="5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2T01:06:00Z</dcterms:created>
  <dc:creator/>
  <dc:description/>
  <dc:language>en-US</dc:language>
  <cp:lastModifiedBy>万润仪器贸易公司</cp:lastModifiedBy>
  <dcterms:modified xsi:type="dcterms:W3CDTF">2020-08-21T08:54:40Z</dcterms:modified>
  <cp:revision>5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